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4D96-F523-4684-925E-8B48ED14E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D3A6-09FA-4BF5-9005-E2794FD20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1AFA-F2B7-4EE4-B5B1-B96FD411E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EFAA-721E-4C19-9FCC-C4D17F8D3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CA96-B315-4A02-81A1-E04C6625E7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7BA4-0330-4F7D-8912-FF4D40D03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04E7-8681-4BB4-9259-7EF1152BD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FF15-9976-4EF4-A639-5491A908E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A6D3-FB8D-46EF-8EB6-DDB791073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4489-D603-4C8F-9AE9-364D4D3A5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1F38-A76B-4568-AA34-B36E69F68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65B4-2372-44B4-83AA-118D0EA79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2C92-63C4-475B-A97E-210051E85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19EA-E0A4-4BE9-94D5-84996ED62C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4724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76000"/>
          </a:bodyPr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indergarten to Grad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95680" y="2881440"/>
            <a:ext cx="2424240" cy="19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9492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kne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ey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and your partner have the same fractions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C406-A2BB-401E-8505-E8369F9B7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362320" cy="200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23623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eck for Understand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ne person hiked two-thirds of the way on the trail, the other person hiked two-fourths of the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o hiked the further d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use of number line activities to from whole number to frac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how the number line is different from other fractional representations and its 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the number line and how understanding its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the advantages that can be gained by using the number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nsolidation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back of your number l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What are some pluses of using the number line when dealing with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What mathematical concepts can be reinforced by using the number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flect on the Quo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Learning is a treasure that will follow its owner everywher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47B6-B152-4165-98DD-B320A765DD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CAB-1941-49CE-B1A2-59AC08E783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95760" y="372420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3048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your thinking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23E7-B840-4A96-9300-7106A7D87B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8F70-D710-4F54-89DC-0A6AE0E347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9051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Value Lin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55000"/>
          </a:bodyPr>
          <a:p>
            <a:pPr marL="2102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es this activity have to do with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0240" indent="-18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yourself on the valu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0240" indent="-18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with your neighbours to ensure you have positioned yourself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1E90-4DDF-44F2-B6ED-C090B243AF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495680"/>
            <a:ext cx="7239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5720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4495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 – agai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half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fourth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three fourths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1AD5-88DD-4BEC-B027-A739BFB458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072B-F6E6-4A13-84D4-66EBF5C839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ystery person stands somewhere and the rest figure out what fraction he/she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F11E-BF76-48C8-A027-32D8CCA860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C17A-A857-418B-933D-E7D828F9EE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ction!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ha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four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9528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with a new adding tap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thi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happen if you folded the tape in half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91440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where these fractions would be on your bodies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ne half, one fourth, two th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those spots with 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est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8B77-F182-4A94-A5B5-297FDEC04B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86680" y="4381560"/>
            <a:ext cx="2857320" cy="2476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eel District School Board</cp:lastModifiedBy>
  <dcterms:modified xsi:type="dcterms:W3CDTF">2012-07-17T00:30:41Z</dcterms:modified>
  <cp:revision>16</cp:revision>
  <dc:subject/>
  <dc:title>&lt;Title&gt;</dc:title>
</cp:coreProperties>
</file>